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59A-5A12-4050-90B5-56B3CC76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8DB-192D-48C5-A2EA-2F78F876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67F-A6A8-403C-851D-5EAC79D5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B3A-BE9E-4980-9210-38DCDC5B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E41-20F9-42A0-89FA-1A6AEAED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ECD-2CBF-4420-9057-742ACCA9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975-1071-49E8-B791-D29CBD4F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DBE-CA27-4965-99E4-E0E878EF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39C-D70D-4789-A596-9AE504D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EB3-3CB6-47EA-AF23-339C8F5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E4F-0FA6-4D39-A2A4-E54A82C5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94B-366B-406C-904B-0E51569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7A2-47DC-4545-BE65-7C49E0E2F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2120"/>
            <a:ext cx="792468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 nás čeká s nařízením REA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 konference Projektování a provoz povrchových úpr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ha  7. – 8. březen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g. Eva Vesel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doucí oddělení chemického průmyslu a farma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sterstvo průmyslu a obcho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8880" y="457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445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304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 bude následovat v české legislativě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610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CH plynou některé povinnosti přímo pro státní sprá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ovat zástupce do orgánů Ag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řídit národní „kompetentní autoritu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řídit národní kontaktní (informační) místo – tzv. národ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racovat s Agentur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árodní legislativy zapracovat systém kontroly plnění povinností 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 a sankcí za jejich nepln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pravovat návrhy do plánu látek pro zařazení do přílohy X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y se stanou předmětem autorizace/povol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304920"/>
            <a:ext cx="83818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vel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ckého zá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e dotk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pečnostního list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je v nařízení R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bi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cení rizik pro zdraví a životní prostřed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b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kc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ib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 zkouše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 novém naříz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ního a sankčního režimu, který zajistí vymahatelnos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a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rušeno bude postupně 9 z 12 prováděcích právních předpisů k chemickému záko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innost změn je nutné správně načasova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445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8600" y="762120"/>
          <a:ext cx="8686800" cy="538632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4952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um – termín plně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hůta**od platnosti nařízení R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in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.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řízení (ES) č. 1907/2006 vstupuje v platno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.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2.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regis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1.12.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race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avedených látek 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ziproduktů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/ro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CMR kat.1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t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pro vodní organizmy R50/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t/rok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ostatní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1.6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avedených látek a meziproduktů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≥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t/ro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1.6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avedených látek a meziproduktů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≥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/ro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80880" y="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Termínové plnění ze strany Agentury, V/D látek a meziprodu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armonogram hlavních kroků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1722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e V/D předregist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míní se tím nejzazší doba, žádost o registraci lze zaslat i dří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761240" y="0"/>
            <a:ext cx="13827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295280"/>
            <a:ext cx="8381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. 1: Registrační povinnost se vztahuje na látky jako takové, obsažené v přípravcích nebo předmětech (u nichž se počítá s jejich uvolňování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yráběné/dovážen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množství≥1t/r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. 2: V, D, NU, 3. osoby – mohou do Agentury zasílat informace o látkách a mít tak možnost stát se účastníky Fóra pro výměnu informa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. 3: NU se může zapojit do registračního procesu nejpozději 12 měsíců před uplynutím lhůty pro registraci zavedené látky příslušným V/D tím, že mu oznámí své použití a příslušné informace k tomu, aby V/D mohl zpracovat scénář expozice případně kategorii použi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1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143000"/>
            <a:ext cx="84582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.20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7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 (ES) č. 1907/2006 vstupuje v plat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1.6.200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b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pečnostní listy podle hlavy IV a přílohy II naříze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1.6.2008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t registrovat (notifikovat) nové látky podle stávajíc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slati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1.6.2008                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istrace látek podle nařízení REACH (pro látky uváděné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rh  v tonáži ≥1t/r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.2008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hájí činnost Agentura v Helsink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.2008 - 1.12.2008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registrace (předběžná registr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009          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ura zveřejní seznam předregistrovaných lá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636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914400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alší významné termí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1.12.200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ura přidělí registrační číslo látkám oznámeným (pod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ěrnice  67/548/E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1.6.200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ura poprvé doporučí zahrnutí prioritních látek do přílohy X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1.12.201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ní žádosti o povolení uvádění na trh nebo použití látky zařazené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 přílohy X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d 1.12.201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vinn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kládat informace pro účely jednotné klasifikace (poku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 již V/D neučinil v rámci registr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o 1.6.20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lenské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áty si mohou ponechat v platnosti veškerá stávající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snější omezení týkající se tab. X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o 1.6.200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 vytvoří seznam těchto omez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992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81080" y="228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oby v dodavatelském řetězc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447920"/>
            <a:ext cx="7467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1430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066680"/>
          <a:ext cx="8534520" cy="51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534520" cy="51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91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049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fikace postavení v dodavatelsko-odběratelské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řetězci  a převzetí ro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295280"/>
            <a:ext cx="83822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/D látek, V/D přípravků, V/D  předmětů, NU látek a přípravk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ěli ve své firm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č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povědného člena vrcholového vedení a nejméně jednoh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dpovědného (výkonného) pracovní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známit 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základní strukturou a obsahem nařízení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fikovat svou pozici (výrobce, dovozce, distributor, následný uživatel) látky nebo přípravku a roli vzhledem k nařízení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ov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ých látek a přípravků používaných ve firmě se může nařízení tý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vrhnout způs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čního, personálního, finančního a tech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ištění povinn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háj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ále popisované aktiv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37560" y="0"/>
            <a:ext cx="13064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762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 co nesmí zapomenout následní uživatel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84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ásledným uživatele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fyzická nebo právnická osoba usazená ve Společenství, jiná než výrobce nebo dovozce, která používá látku samotnou nebo obsaženou v přípravku při své průmyslové nebo profesionální činnosti. Následným uživatelem není distributor ani spotřebitel. Za následného uživatele se považuje rovněž zpětný dovozce osvobozený podle čl. 2 odst. 7 písm.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80360" y="228600"/>
            <a:ext cx="17636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kupiny následných uživatel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219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76212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ýrobci chemick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konečné použití (výroba ředidel-pro distribuci pro konečného spotřebitele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použití k výrobě dalších přípravků (výroba ředidel - pro další využití při výrobě barev a lak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ůmysloví uživatelé látek a přípravk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 průmyslovém objektu) používají látky nebo přípravky, kte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jsou zapracovány do výrobku (kupř. chladící kapaliny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racovávají látky nebo přípravky do výrobků a předmětů (výroba gumárenských směsí, následující výroba automobilových plášťů nebo jiných gumárenských výrobků, výroba barev a lak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fesionální uživatelé látek a přípravk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ně průmyslového objektu), kteří je používaj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vykonávání své profese (malíři, úklidové služby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baluj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mportuj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636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304920"/>
            <a:ext cx="8381880" cy="73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 nás čeká s nařízením REACH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č se zavádí nová chemická legisl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ie projednávaného návr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časný stav nové chemické legislativ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 bude následovat v legislativě ES ve vazbě na nařízení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 bude následovat v české legislativ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ínové plnění ze strany Agentury, výrobců, dovozců, následných uživatelů (harmonogram hlavních krok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y v dodavatelském řetěz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kace postavení v dodavatelsko-odběratelském řetězci  a převzetí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o nesmí zapomenout následní uživate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moc podnikatelům ze strany EK, státní správy, podnikatelských svazů  a asoci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íce informací na adresách: MPO, EK, ECB, SCHP, CE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152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838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oporučené aktivity pro následné uživatel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523880"/>
            <a:ext cx="86868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ov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ý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átek a přípravk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užívaných ve firmě se může nařízení týk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NCHL, NCH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PBT+vPv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 množství více než 1t/rok pro určit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sledně vyžadov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dodáv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CHL a NCHP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pečnostní li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ovat dodavatel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ovat s dodavatel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pravit se na zapojení do procesu registr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zpečných lá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hat proškolit minimálně  1 –2 pracovníky k nařízení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pravovat dokumentac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á se vyžaduje od následného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ivatele NCHL/NC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8399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143000"/>
            <a:ext cx="830592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ímat se o to, zda látka, kterou používá samotnou nebo v přípravku j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fikována ja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R kat. 1, 2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dle směrnice 67/548/ES), resp. zákona č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6/2003 Sb., a vyhl. 232/2004 Sb., v aktuálním z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T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kritérií v příloze XIII nařízení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vB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kritérií v příloze XIII nařízení 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krinní disruptor a srovnatelná látk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ritéria zatím nebyl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oven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á se vesměs o látky z dlouhodobého hlediska pro lidské zdraví nebo životní prostředí nejnebezpečnější. Proto již dnes je při jejich použití nutno přemýšlet strategicky o vhodných náhradách látkami méně nebezpečný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5350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447920"/>
            <a:ext cx="861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ásledný uživatel (NU) se může zapojit do procesu regist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podstatě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jpozděj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měsíců před uplynutím příslušné lhůty pro registra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procesu registrace se NU zapojuje pouze v případě, že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sledným uživatelem NCHL nebo přípravku, k němuž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legislativě REACH stanovena povinnost zpracovávat B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pracovává NCHL samotnou nebo v přípravku, v němž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žena v tonáži ≥1t/rok (anebo v budoucnosti očekáv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žení této hrani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 zavedených lát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vyhotoví žád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 má právo oznámit písemně (nebo elektronicky) své použit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y se toto použití stalo určeným použití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tak NU učiní u zavedených látek nejméně 12 měsíců před uplynutím příslušné lhůty pro registraci,  potom výrobce, dovozce nebo NU musí vyhovět této žádost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s výjimkou  pro „dodavatelem nedoporučené použití“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 registrovaných látek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 jsou látky „nové“, které byly registrovány/oznámeny podle směrnice 67/548/ES resp. podle zákona č. 158/97 Sb. nebo 356/2003 Sb., ve znění pozdějších změn a příslušné prováděcí vyhlášky) je to komplikovanější, ale také to lze zrealizovat, poku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podá žádost V/D látky nebo přípravku 1 měsíc před dodáním látky/příprav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8399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160020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 poskyt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é informace o nebezpečných vlastnoste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átky/přípravk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z ohledu na dotčené po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škeré inform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by mohly zpochybn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odnost opatřen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řízení riz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ému dodavate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ť už je to výrobce, dovozce nebo distribu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75248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 použití, které se nestane určeným použit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U chce i přes negativní sdělení V/D látku/přípravek pro své použití využívat a používá látku samotnou nebo v přípravku v tonáži ≥1t/rok, je povin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yhotovit zprávu o chemické bezpečnost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 každé použití mimo podmínky popsané ve scénáři expozice nebo kategoriích použití a expozice, které mu byly předány v BL, nebo pro každé použití, které dodavatel nedoporučuje a zahrnout je d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vého B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1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vinnost  NU hlásit Agentu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U začne používat NCHL nebo NCHP až po uplynutí lhůty pro registraci lát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řed započetím nebo pokračováním použití NCHL nebo PBT, vPvB, která byla registrová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NCH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mají pov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pracovávat ZCHB, 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látku používají v množství &lt; 1t/rok, 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účely výzkumu a výv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ou povinni hlásit Agentuř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ou identifikaci podle bodu 1.1 přílohy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a látek (pokud budou k dispoz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ci látek podle bodů 2.1 až 2.3.4 přílohy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ci výrobců nebo dovozců nebo dalších dodavatel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obecný popis po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 některých případech návrh zkoušky na obratlovc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76364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alší povinnosti 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 vyhotovuje ZCH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e povinen j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chivovat a aktualizov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 vyhotovuje B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e povinen jej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chivovat a aktualizov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kud N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vypracovává ZCH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latňu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škerá vhodná opatření pro řízení rizik potřebná k zajištění náležité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ntroly rizik pro lidské zdraví a Ž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 obdržených 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Zaměstnavatel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ož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vým zaměstnancům a jejich zástupců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íst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bezpečnostním listů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 zprávám o chemické bezpe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látkám a přípravkům, které zaměstnanci používají, nebo jejichž účinkům mohou být během své práce vystave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1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447920"/>
            <a:ext cx="8534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19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. Pomoc podnikatelům ze strany EU, státní správy, podnikatelských svazů a asocia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ská komi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připravu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 Implementation Projects-RIP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is 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2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ční technologie – IT na podporu implementa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/návody pro průmy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/návody pro kompetentní úřady členských 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 5/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tvoření Ag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19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rava EK na 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992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1" lang="cs-CZ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o průmysl budou nejdůležitější RIPs řad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45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3.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 pro přípravu technické dokumentace (pro V/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3.2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kce pro přípravu technické dokumentace ke zprávě o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emické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zpečnosti (ZCHB) –pro V/D/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3.3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 pro přípravu technické dokumentace k požadavkům n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teč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látek – pro V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3.4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 o sdílení údajů – pro V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3.5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kce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 požadavcích na následné uživatele podél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pracovatelského/dodavatelského řetězce – pro 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3.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 pro klasifikaci a označování podle globálního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ovanéh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u (GHS=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ba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onized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em of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and labelling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) – pro V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3.7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 pro přípravu dokumentačního souboru pro autoriz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3.8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kce pro splnění požadavků pro předměty – pro V/D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ředmě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3.9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e pro zpracování socio-ekonomické analýzy  (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io-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mi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P 3.10Instrukce pro identifikaci látky a volbu názvu – pro V/D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8399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152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č se zavádí nová chemická legislativ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 m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ytvořit rovné postav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zi zavedenými a novými látkam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ednodušit ES legislativ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plnit scházející inform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 více než 30.000 láte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činit přístupnějšími informace o chemických látká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ůmyslu umožnit bezpečnější používání látek v pracovním proces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át se stimulátorem vývoje nových látek a bezpečnějšího použití známých láte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možnit větší flexibilitu výzkumu a vývo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ých láte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ajistit plynulou komunikaci podél dodavatelsko-odběratelského řetězce mezi podni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1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76212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pracuj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obecnou instrukc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á bude sloužit jako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VOD,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k používat podrobné a specifické instrukce k procesům předregistrace, registrace, a další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jsou v různých stadiích zpracování a podrobnosti naleznete na adrese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ecb.jrc.it/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de mít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DES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ý bude obsahovat informace pro dotčené osob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rodní orgán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enských států budou zřizovat „náro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DES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“ (v České republice to bud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stvo životního prostředí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de nadále vystavovat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ální informace k R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z chemického průmysl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ískal grant na realizaci projektu 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bilita a posílení konkurenceschopnosti chemického průmyslu ČR“ v oblasti REACH, připravuje školící materiály a individuální specializovaná školení pro zaměstnance i zaměstnavatele ve firmách. Proškolení nabízí zdarma. Veškeré informace najdete na ad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ww.schp-adaptabilita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ww.schp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7636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85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853920"/>
            <a:ext cx="82296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1. Více informací na adresách  MPO, ECB, EK,  SCHP, CEFIC,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ww.mpo.cz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kce Průmysl a stavebnictví/nová chemická legislativ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ce Průmysl a stavebnictví/G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ecb.jrc.it/REACH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Chemicals Bur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europa.eu.int/comm/environment/chemicals/index.ht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ská ko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europa.eu.int/comm/environment/chemicals/reach/reach_intro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europa.eu.int/comm/enterprise/chemicals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europa.euint/comm/enterprise/reach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ww.schp.cz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z chemického průmy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ww.schp-adaptabilita.cz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z chemického průmy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ww.cefic.org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FIC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9162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143000"/>
            <a:ext cx="731520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. Závě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ajímejte se o kompletní text nařízení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věřte v podnicích osobu/y, která bude v podniku zodpovědná za plnění povinností plynoucích z nové legislativy REAC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ahajte přípravu na REACH, pokud jste tak již neučin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523880"/>
            <a:ext cx="80769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 REACH přenáší větší odpovědnost na podnikatelskou sféru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žaduje komunikaci mezi výrobci-dovozci-distributory-následnými uživateli v obou směre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vatelsk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ěratelského řetěz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1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torie projednávání návrh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762120"/>
            <a:ext cx="81532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1-Bílá kni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1.2003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     1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návrh nařízení R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okument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(2003)644 fina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předán Komisí Evropskému Parlamentu a Evropské Radě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11.200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tení v Evropském  Parlamen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2.200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dosáhla politické sh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6.200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jala Rada Společnou pozici (Common pos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2.200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čtení v 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12.200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hodnutí R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0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řízení EP a Rady (ES) č. 1907/2006  (REACH)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eřejněno  v ÚV EU L3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0.12.2006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ěrnice EP a Rady 2006/121/ES v ÚV EU L39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časný stav nové chemické legislativ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05740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istration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ation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horisation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iction of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90360" y="243828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114800" y="2590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5146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66520" y="251460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8399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1143000"/>
            <a:ext cx="754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říze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ského parlamentu a Rady (ES)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č. 1907/2006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dne 18. prosince 2006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 registraci, hodnocení, povolování a omezování chemických látek, o zřízení Evropské agentury pro chemické látk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 o změně směrnice 1999/45/ES a o zrušení nařízení Rady (EHS) č. 793/93, nařízení Komise (ES) č. 1488/94, směrnice Rady 76/769/EHS a směrnic Komise 91/155/EHS, 93/67/EHS, 93/105/ES a 2000/21/E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zv. nařízení REACH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platností od 1.6.2007, vyhlášeno v ÚV EU 30.12.2006 L 396, str. 1-851;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í ve všech členských státech přímo;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národní legislativě bude potřeba ošetřit vymahatelnost (povinnosti propojit se sankce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992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600200"/>
            <a:ext cx="7010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ěrn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ropského parlamentu a Rad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6/121/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e dne 18. prosince 2006, kter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ě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ěrnice Rady 67/548/E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bližování právních a správních předpisů týkajících se klasifikace, balení a označování nebezpečných látek za účelem jejího přizpůsobení nařízení (ES) č. 1907/2006 o registraci, hodnocení, povolování a omezování chemických látek a o zřízení Evropské agentury pro chemické látky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ěna tzv. látkové směrn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platností od 20.1.2007, vyhlášena v ÚV EU 30.12.2006 L 396, str. 852-858, nutno implementovat do národní legislativy do 1.6.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68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838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 bude následovat v legislativě ES ve vazbě na nařízení RE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ší předpisy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ávní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řízení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koušení chemických látek a příprav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 klasifikace, balení a označování nebezpečných chemických látek a přípravků (směsí), přijetí tzv. Globálního harmonizovaného systému klasifikace, balení a označování nebezpečných látek a směsí (G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 poplatků za registraci, povolování (autorizaci) a dalš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992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9:05:55Z</dcterms:created>
  <dc:creator>Kabelkova Marketa</dc:creator>
  <dc:description/>
  <dc:language>en-US</dc:language>
  <cp:lastModifiedBy>Iva Pachtová</cp:lastModifiedBy>
  <dcterms:modified xsi:type="dcterms:W3CDTF">2007-03-09T17:05:22Z</dcterms:modified>
  <cp:revision>40</cp:revision>
  <dc:subject/>
  <dc:title>Prezentace aplikace PowerPoint</dc:title>
</cp:coreProperties>
</file>